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8C4-6362-4F77-B366-A6F52AEE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846-D63B-4D88-8672-A68CA414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86E-79EF-446E-BDEC-121ED719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1B8-2A50-4BAD-8A9D-D88CA7F2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0CA0-7626-4188-9390-66DB3658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77B2-B643-4AF7-8E70-C0D86358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091A-D8B6-4E04-A579-A6BE2DAD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99AE-2A45-4AB3-9D92-FD56CF0B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E0F6-E7AF-436B-8975-2E871153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AC6A-3FAF-4383-89DD-8CCB0CB5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1166-442D-411B-A8D0-53F21E9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139-2B32-4C24-ACBB-7EF8770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9E8D-00B9-4EF0-9B8C-347BFC10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C1C0-7C01-499C-9D76-E20C2AA6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D884-738C-4F04-BF58-F74BB384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6B4C-3964-4097-B6AC-9ECEEDBA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6CDE-6003-4D6E-919F-32C73DDF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631-7CF9-4883-AEFF-69625C05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C99-25A2-4A75-AA24-E9FFA67C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0EC-C05E-436A-9558-C74B3FA9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32F-329D-4F6A-A2CD-BB6C5F98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498-A06B-449B-9D5A-22CB5DFE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86B-1F44-4A4F-8C2E-FF0B8AD4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CE3-395D-4087-A05F-0D4182FE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upo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orma libre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orma libre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upo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orma libre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orma libre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orma libre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orma libre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orma libre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orma libre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orma libre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orma libre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orma libre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DD7B-ECDB-4924-A598-1207F20E8BE2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upo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upo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orma libre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orma libre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orma libre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orma libre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orma libre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upo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orma libre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orma libre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orma libre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orma libre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orma libre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orma libre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7DE3-0862-44BE-A9F0-6F24BD859B1A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HERMANO MAY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REQUISITOS BÁSIC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r miembro de un Grupo Peque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ar en equipo con otros ministerios espirituales complementari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sposición a ser capacit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idar espiritualmente a un número de crey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poyar en la educación de otros hermanos may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HERMANO MAYO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ecialista en la Consolidación de los crey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n 4" descr="Biblia-Esp-38-Mundo-Raz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ángulo 5"/>
          <p:cNvSpPr/>
          <p:nvPr/>
        </p:nvSpPr>
        <p:spPr>
          <a:xfrm>
            <a:off x="2708280" y="51325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700" spc="-1" strike="noStrike">
                <a:solidFill>
                  <a:srgbClr val="ffff00"/>
                </a:solidFill>
                <a:latin typeface="BankGothic Md BT"/>
              </a:rPr>
              <a:t>¡HOY!</a:t>
            </a:r>
            <a:endParaRPr b="0" lang="en-US" sz="1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ángulo 6"/>
          <p:cNvSpPr/>
          <p:nvPr/>
        </p:nvSpPr>
        <p:spPr>
          <a:xfrm>
            <a:off x="34920" y="189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ankGothic Md BT"/>
              </a:rPr>
              <a:t>JESÚS CUENTA CONTIGO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ángulo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ángulo 5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e es un seminario introductor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ne como objetivo presentar en forma general lo que es este minister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ener un cuerpo de Hermanos Mayores consagrados a Jesucristo y a la misión de la Iglesia Adventista del 7mo. Dí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OBJETIVOS GENERA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tar con Hermanos Mayores preparados para ayudar a consolidar al 80% de los miemb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tar con Hermanos Mayores que sean conductores de los Hermanos Mayores que se añadirán a la igles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ángulo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ffffff"/>
                </a:solidFill>
                <a:latin typeface="BankGothic Md BT"/>
              </a:rPr>
              <a:t>HERMANOS MAYO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ángulo 5"/>
          <p:cNvSpPr/>
          <p:nvPr/>
        </p:nvSpPr>
        <p:spPr>
          <a:xfrm>
            <a:off x="2774880" y="1981080"/>
            <a:ext cx="6118200" cy="24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800" spc="-1" strike="noStrike">
                <a:solidFill>
                  <a:srgbClr val="99cc00"/>
                </a:solidFill>
                <a:latin typeface="Subway"/>
              </a:rPr>
              <a:t>Expertos en la Consolación y Consolidación de los Miembros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Imagen 6" descr="PE01460_"/>
          <p:cNvPicPr/>
          <p:nvPr/>
        </p:nvPicPr>
        <p:blipFill>
          <a:blip r:embed="rId1"/>
          <a:stretch/>
        </p:blipFill>
        <p:spPr>
          <a:xfrm>
            <a:off x="934920" y="3962520"/>
            <a:ext cx="153216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7" descr="logotipo iglesia ADVENTISTA"/>
          <p:cNvPicPr/>
          <p:nvPr/>
        </p:nvPicPr>
        <p:blipFill>
          <a:blip r:embed="rId2"/>
          <a:stretch/>
        </p:blipFill>
        <p:spPr>
          <a:xfrm>
            <a:off x="0" y="6154560"/>
            <a:ext cx="7570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BASE BÍBLIC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36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i="1" lang="es-VE" sz="3600" spc="-1" strike="noStrike">
                <a:solidFill>
                  <a:srgbClr val="ff0066"/>
                </a:solidFill>
                <a:latin typeface="Tahoma"/>
              </a:rPr>
              <a:t>Y Judas y Silas, como ellos también eran profetas, </a:t>
            </a:r>
            <a:r>
              <a:rPr b="1" i="1" lang="es-VE" sz="3600" spc="-1" strike="noStrike">
                <a:solidFill>
                  <a:srgbClr val="00ff00"/>
                </a:solidFill>
                <a:latin typeface="Tahoma"/>
              </a:rPr>
              <a:t>consolaron y confirmaron</a:t>
            </a:r>
            <a:r>
              <a:rPr b="1" i="1" lang="es-VE" sz="3600" spc="-1" strike="noStrike">
                <a:solidFill>
                  <a:srgbClr val="ff0066"/>
                </a:solidFill>
                <a:latin typeface="Tahoma"/>
              </a:rPr>
              <a:t> a los hermanos con abundancia de palabras… Y Pablo y Bernabé continuaron en Antioquía, </a:t>
            </a:r>
            <a:r>
              <a:rPr b="1" i="1" lang="es-VE" sz="3600" spc="-1" strike="noStrike">
                <a:solidFill>
                  <a:srgbClr val="00ff00"/>
                </a:solidFill>
                <a:latin typeface="Tahoma"/>
              </a:rPr>
              <a:t>enseñando la palabra de Señor y anunciando el evangelio</a:t>
            </a:r>
            <a:r>
              <a:rPr b="1" i="1" lang="es-VE" sz="3600" spc="-1" strike="noStrike">
                <a:solidFill>
                  <a:srgbClr val="ff0066"/>
                </a:solidFill>
                <a:latin typeface="Tahoma"/>
              </a:rPr>
              <a:t> con otros muchos”. Hechos 15.32,3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CARACTERÍSTIC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olar a los crey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leno de amor por su Señ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leno de amor por sus herma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leno de la Palabra de Dios, allí encuentra su consuelo y el de los demá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rve para aliviar las cargas, como un desahogo ante las luchas y como un calmante espiritu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firmar a los crey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aro con la misión de la igl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ocedor de las Verdades bíbl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irmemente anclado en la Roca de los sig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uida con constancia a los puesto bajo su cuid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seña los rudimentos de la fe a sus pupi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seña la cultura adventista a sus pupil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CARACTERÍSTIC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aeaea"/>
                </a:solidFill>
                <a:latin typeface="Tahoma"/>
              </a:rPr>
              <a:t>INSTRUCCIÓN INDISPENS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risis del Recién bautiz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é enseñar a los recién bautiz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aciendo discíp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octrinas bíbl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istoria Denominac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y Devis</cp:lastModifiedBy>
  <dcterms:modified xsi:type="dcterms:W3CDTF">2010-06-07T14:1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